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C8F5-F54B-4781-B9CF-7EA9E2783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DA13-0CD1-4EC3-A060-0E47BD62064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4E53-1FD1-4BC8-9982-99E151FAEFD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0D0C-65E6-49D3-A1DD-0825703B236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4DBD-B07F-4265-B988-4BB0A719285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7A41-5D8F-44E1-B3FD-B9E42674F3B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8836-2287-45FD-84E6-8F4BB7C6F57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DC7B-5B64-4418-95F1-00868185FD8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7964-AB09-4157-87BB-4278CCBA6CA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914E-2024-4DE0-8207-C41DF50DE8E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1544-D76F-4DF3-9137-374017166EF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709-3396-495B-8080-0E2403BD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0F9-C34B-45A7-A60D-6060CFF9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64F-09E8-416E-8FFD-A229D877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68A-921F-4C7C-996E-2A7D74C5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93AB-1803-41A1-9201-B178C9C7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E746-C195-43CB-BF8A-42B45AF9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3DF3-2719-4BAB-9B0D-612B564A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4502-6335-48A9-95A8-6F8D38FA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469B-B93A-4F79-963C-CDF43545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5B2D-8963-4786-B198-7535653E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A585-2C76-43BD-A59F-D22A59CF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E98-4F73-4CB6-814D-372394EC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511E-A85C-4A1E-9FA3-C45046D0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CFFC-094E-4607-8836-6246B381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F132-88E1-46A6-90F8-B2ED9E6E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1A98-91E0-4CEB-B9B1-DF4B11A4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F9B6-8652-4928-A64A-7D128C31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256-C132-4E80-AC75-D6E9824B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7CF-127F-4169-84DC-ABD746F6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C3C-6700-424A-A20C-922EDB60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72F-6899-4BDC-A57A-3D1DD14B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18E-D25E-4B57-907F-E611A660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E09-256F-4B08-B4B3-DE6505B5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C8D-0BD6-41B2-B2CE-0F75D773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22BC-E443-4B1F-BA97-CB737DBE9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6196-1873-41D9-8211-9A3334EC71C1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ommunication/Grade/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eChalk Session x of 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ting Going with eChalk Email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e will take the next 20 minutes to practice sending and replying to email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n we will come back together and shar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et the email addresses of 2 students sitting near you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Practice &amp; </a:t>
            </a:r>
            <a:br>
              <a:rPr sz="4000"/>
            </a:b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Discover Some More Features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o far this year, what tech support have you given your teacher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1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Answer that question in an email.  Send it to someone sitting near you.  Cc someone els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efore you send it, use the Rich Text Editor to change the font and appearance of the messag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2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Read the message you receive and forward it to someone else in the room. Use the Find Members feature to look up his/ her email address. Mark the message urgent. 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12164"/>
                </a:solidFill>
                <a:uFillTx/>
                <a:latin typeface="Arial"/>
              </a:rPr>
              <a:t>Step 3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Delete a message. 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id you learn about writing and sending email in eChalk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other new discoveries did you make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support others in reading, writing, and replying to email?</a:t>
            </a:r>
            <a:br>
              <a:rPr sz="3200"/>
            </a:b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12164"/>
                </a:solidFill>
                <a:latin typeface="Arial"/>
              </a:rPr>
              <a:t>Today we will learn how to: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Read eChalk emai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Reply to eChalk emai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rite eChalk email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he Toolba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Go to ‘school number.nycdoe.org’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When I login I see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What are these parts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of the toolbar about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159372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BD21298_"/>
          <p:cNvPicPr/>
          <p:nvPr/>
        </p:nvPicPr>
        <p:blipFill>
          <a:blip r:embed="rId2"/>
          <a:stretch/>
        </p:blipFill>
        <p:spPr>
          <a:xfrm flipH="1" rot="20018400">
            <a:off x="5866920" y="2971800"/>
            <a:ext cx="685800" cy="436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BD21298_"/>
          <p:cNvPicPr/>
          <p:nvPr/>
        </p:nvPicPr>
        <p:blipFill>
          <a:blip r:embed="rId3"/>
          <a:stretch/>
        </p:blipFill>
        <p:spPr>
          <a:xfrm flipH="1" rot="21093000">
            <a:off x="5943240" y="3581280"/>
            <a:ext cx="68580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he Inbox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do you know from this inbox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000840" cy="284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BD21298_"/>
          <p:cNvPicPr/>
          <p:nvPr/>
        </p:nvPicPr>
        <p:blipFill>
          <a:blip r:embed="rId2"/>
          <a:stretch/>
        </p:blipFill>
        <p:spPr>
          <a:xfrm flipH="1" rot="18317400">
            <a:off x="7441920" y="330084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BD21298_"/>
          <p:cNvPicPr/>
          <p:nvPr/>
        </p:nvPicPr>
        <p:blipFill>
          <a:blip r:embed="rId3"/>
          <a:stretch/>
        </p:blipFill>
        <p:spPr>
          <a:xfrm flipH="1" rot="7089000">
            <a:off x="5537520" y="4519440"/>
            <a:ext cx="609480" cy="4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BD21298_"/>
          <p:cNvPicPr/>
          <p:nvPr/>
        </p:nvPicPr>
        <p:blipFill>
          <a:blip r:embed="rId4"/>
          <a:stretch/>
        </p:blipFill>
        <p:spPr>
          <a:xfrm flipH="1" rot="18317400">
            <a:off x="5460840" y="352944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BD21298_"/>
          <p:cNvPicPr/>
          <p:nvPr/>
        </p:nvPicPr>
        <p:blipFill>
          <a:blip r:embed="rId5"/>
          <a:stretch/>
        </p:blipFill>
        <p:spPr>
          <a:xfrm flipH="1" rot="3898800">
            <a:off x="3480480" y="4214880"/>
            <a:ext cx="609480" cy="408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BD21298_"/>
          <p:cNvPicPr/>
          <p:nvPr/>
        </p:nvPicPr>
        <p:blipFill>
          <a:blip r:embed="rId6"/>
          <a:stretch/>
        </p:blipFill>
        <p:spPr>
          <a:xfrm flipH="1" rot="5887200">
            <a:off x="2642040" y="4672800"/>
            <a:ext cx="609480" cy="40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BD21298_"/>
          <p:cNvPicPr/>
          <p:nvPr/>
        </p:nvPicPr>
        <p:blipFill>
          <a:blip r:embed="rId7"/>
          <a:stretch/>
        </p:blipFill>
        <p:spPr>
          <a:xfrm flipH="1" rot="13264200">
            <a:off x="2209320" y="3581280"/>
            <a:ext cx="609840" cy="407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BD21298_"/>
          <p:cNvPicPr/>
          <p:nvPr/>
        </p:nvPicPr>
        <p:blipFill>
          <a:blip r:embed="rId8"/>
          <a:stretch/>
        </p:blipFill>
        <p:spPr>
          <a:xfrm flipH="1" rot="3961200">
            <a:off x="4927680" y="566316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BD21298_"/>
          <p:cNvPicPr/>
          <p:nvPr/>
        </p:nvPicPr>
        <p:blipFill>
          <a:blip r:embed="rId9"/>
          <a:stretch/>
        </p:blipFill>
        <p:spPr>
          <a:xfrm flipH="1" rot="2649600">
            <a:off x="7238520" y="5257440"/>
            <a:ext cx="6098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Opening a messag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on the subject to open the email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ext Step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ich shoul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you choos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5105160" cy="357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BD21298_"/>
          <p:cNvPicPr/>
          <p:nvPr/>
        </p:nvPicPr>
        <p:blipFill>
          <a:blip r:embed="rId2"/>
          <a:stretch/>
        </p:blipFill>
        <p:spPr>
          <a:xfrm flipH="1" rot="18115800">
            <a:off x="5460840" y="2768040"/>
            <a:ext cx="609840" cy="40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BD21298_"/>
          <p:cNvPicPr/>
          <p:nvPr/>
        </p:nvPicPr>
        <p:blipFill>
          <a:blip r:embed="rId3"/>
          <a:stretch/>
        </p:blipFill>
        <p:spPr>
          <a:xfrm flipH="1" rot="15805200">
            <a:off x="4470480" y="26917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BD21298_"/>
          <p:cNvPicPr/>
          <p:nvPr/>
        </p:nvPicPr>
        <p:blipFill>
          <a:blip r:embed="rId4"/>
          <a:stretch/>
        </p:blipFill>
        <p:spPr>
          <a:xfrm flipH="1" rot="13266000">
            <a:off x="3504600" y="274320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BD21298_"/>
          <p:cNvPicPr/>
          <p:nvPr/>
        </p:nvPicPr>
        <p:blipFill>
          <a:blip r:embed="rId5"/>
          <a:stretch/>
        </p:blipFill>
        <p:spPr>
          <a:xfrm flipH="1" rot="9147000">
            <a:off x="3199320" y="4342680"/>
            <a:ext cx="6094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ry It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Login to eChalk.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What is in your inbox?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Reply to the message in your inbox.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What do you see on: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the To: line?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the Subject: line?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the body of the email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64"/>
                </a:solidFill>
                <a:latin typeface="Arial"/>
              </a:rPr>
              <a:t>Send it!</a:t>
            </a:r>
            <a:endParaRPr b="0" lang="en-US" sz="2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rite a New Messag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057400" y="1430280"/>
            <a:ext cx="6781680" cy="3598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04920" y="1828800"/>
            <a:ext cx="129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Go to Write Mai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4" name="Picture 5" descr="BD21298_"/>
          <p:cNvPicPr/>
          <p:nvPr/>
        </p:nvPicPr>
        <p:blipFill>
          <a:blip r:embed="rId2"/>
          <a:stretch/>
        </p:blipFill>
        <p:spPr>
          <a:xfrm flipH="1" rot="9147000">
            <a:off x="1446840" y="2285280"/>
            <a:ext cx="609480" cy="407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228600" y="4800600"/>
            <a:ext cx="46483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Think about: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Is there anyone I need to Cc? Bcc?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What makes a good Subject line?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85800" y="3294000"/>
            <a:ext cx="1371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Fill in the To lin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181480" y="5241960"/>
            <a:ext cx="365760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Did I spell check it?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Is the message urgent?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8" name="Picture 9" descr="BD21298_"/>
          <p:cNvPicPr/>
          <p:nvPr/>
        </p:nvPicPr>
        <p:blipFill>
          <a:blip r:embed="rId3"/>
          <a:stretch/>
        </p:blipFill>
        <p:spPr>
          <a:xfrm flipH="1" rot="9147000">
            <a:off x="1676160" y="2895120"/>
            <a:ext cx="1981080" cy="408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BD21298_"/>
          <p:cNvPicPr/>
          <p:nvPr/>
        </p:nvPicPr>
        <p:blipFill>
          <a:blip r:embed="rId4"/>
          <a:stretch/>
        </p:blipFill>
        <p:spPr>
          <a:xfrm flipH="1" rot="18175200">
            <a:off x="4775760" y="1319760"/>
            <a:ext cx="609480" cy="40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BD21298_"/>
          <p:cNvPicPr/>
          <p:nvPr/>
        </p:nvPicPr>
        <p:blipFill>
          <a:blip r:embed="rId5"/>
          <a:stretch/>
        </p:blipFill>
        <p:spPr>
          <a:xfrm flipH="1" rot="8331600">
            <a:off x="5943240" y="3706200"/>
            <a:ext cx="6094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2</cp:lastModifiedBy>
  <dcterms:modified xsi:type="dcterms:W3CDTF">2007-02-05T12:33:03Z</dcterms:modified>
  <cp:revision>22</cp:revision>
  <dc:subject/>
  <dc:title>Workshop Title</dc:title>
</cp:coreProperties>
</file>